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1.1PromiseofPower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.1Promiseof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11560" y="2971800"/>
            <a:ext cx="838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But you will receive power when the Holy Spirit comes on you; and you will be my witnesses in Jerusalem, and in all Judea and Samaria, and to the ends of the earth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1:8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.1Promiseof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MISSI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METHO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</a:rPr>
              <a:t>THE MOD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1.1PromiseofPower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47:29Z</dcterms:modified>
  <cp:revision>40</cp:revision>
  <dc:subject/>
  <dc:title>PowerPoint Presentation</dc:title>
</cp:coreProperties>
</file>