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.6FreePower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768760" y="33526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Peter answered: “May your money perish with you, because you thought you could buy the gift of God with money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8:2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EVERYONE WAS AMAZED BY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’S MAGIC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 WAS AMAZED BY GOD’S POWER AND BELIEVED IN JESU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IMON TRIED TO BUY THE FREE GIFT OF GOD’S POWER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2.6Free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25:32Z</dcterms:modified>
  <cp:revision>49</cp:revision>
  <dc:subject/>
  <dc:title>PowerPoint Presentation</dc:title>
</cp:coreProperties>
</file>