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9000"/>
          </a:bodyPr>
          <a:p>
            <a:pPr marL="30528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marL="5472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1" descr="3.6GetAlong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1" descr="3.6GetAlong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2540160" y="3733920"/>
            <a:ext cx="8153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Helvetica Light"/>
              </a:rPr>
              <a:t>Let us therefore make every effort to do what leads to peace and to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Helvetica Light"/>
              </a:rPr>
              <a:t>mutual edification.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Helvetica Light"/>
                <a:ea typeface="Arial"/>
              </a:rPr>
              <a:t>Romans 14:19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4" descr="3.6GetAlong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5"/>
          <p:cNvSpPr/>
          <p:nvPr/>
        </p:nvSpPr>
        <p:spPr>
          <a:xfrm>
            <a:off x="1854360" y="1905120"/>
            <a:ext cx="9448560" cy="6284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Helvetica Light"/>
              </a:rPr>
              <a:t>AN ARGUMENT BREAKS OUT</a:t>
            </a:r>
            <a:r>
              <a:rPr b="0" lang="en-US" sz="3600" spc="-1" strike="noStrike">
                <a:solidFill>
                  <a:srgbClr val="f2f2f2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Helvetica Light"/>
              </a:rPr>
              <a:t>THE APOSTLES AND THE ELDERS OF THE CHURCH LISTENED, PRAYED, DISCUSSED, AND THEN GAVE THEIR JUDGMENT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Helvetica Light"/>
              </a:rPr>
              <a:t>ON THE ARGUMENT</a:t>
            </a:r>
            <a:r>
              <a:rPr b="0" lang="en-US" sz="3600" spc="-1" strike="noStrike">
                <a:solidFill>
                  <a:srgbClr val="f2f2f2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Helvetica Light"/>
              </a:rPr>
              <a:t>PAUL AND BARNABAS SPLIT UP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Helvetica Light"/>
              </a:rPr>
              <a:t>TIMOTHY JOINED PAUL AND SILAS</a:t>
            </a:r>
            <a:r>
              <a:rPr b="0" lang="en-US" sz="3600" spc="-1" strike="noStrike">
                <a:solidFill>
                  <a:srgbClr val="f2f2f2"/>
                </a:solidFill>
                <a:latin typeface="Helvetica Light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4" descr="3.6GetAlong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4"/>
          <p:cNvSpPr/>
          <p:nvPr/>
        </p:nvSpPr>
        <p:spPr>
          <a:xfrm>
            <a:off x="1015920" y="1600200"/>
            <a:ext cx="11098440" cy="2158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2f2f2"/>
                </a:solidFill>
                <a:latin typeface="Helvetica Light"/>
                <a:ea typeface="Arial"/>
              </a:rPr>
              <a:t>TEMPLATE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2158920" y="3809880"/>
            <a:ext cx="9840960" cy="2971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f2f2f2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f2f2f2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f2f2f2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riah Hoyt</cp:lastModifiedBy>
  <dcterms:modified xsi:type="dcterms:W3CDTF">2016-07-21T19:52:04Z</dcterms:modified>
  <cp:revision>56</cp:revision>
  <dc:subject/>
  <dc:title>PowerPoint Presentation</dc:title>
</cp:coreProperties>
</file>