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9" descr="3.4SurprisedbyYes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9" descr="3.4SurprisedbyYe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768760" y="3124080"/>
            <a:ext cx="7543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As you help us by your prayers. Then many will give thanks on our behalf for the gracious favor granted us in answer to the prayers of many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Helvetica Light"/>
                <a:ea typeface="Arial"/>
              </a:rPr>
              <a:t>2 Corinthians 1:11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2" descr="3.4SurprisedbyYe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</a:rPr>
              <a:t>KING HEROD KILLED JAMES AND ARRESTED PETER</a:t>
            </a: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</a:rPr>
              <a:t>PETER’S FRIENDS PRAYED AND WERE AMAZED WHEN GOD ANSWERED</a:t>
            </a: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</a:rPr>
              <a:t>GOD KILLED KING HEROD FOR WITHHOLDING GLORY FROM GOD</a:t>
            </a: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2" descr="3.4SurprisedbyYe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9:45:30Z</dcterms:modified>
  <cp:revision>54</cp:revision>
  <dc:subject/>
  <dc:title>PowerPoint Presentation</dc:title>
</cp:coreProperties>
</file>