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7" descr="4.5FamilyTie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7" descr="4.5FamilyTi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22096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Which of you, if your son asks for bread, will give him a stone? Or if he asks for a fish, will give him a snake? If you, then, though you are evil, know how to give good gifts to your children, how much more will your Father in heaven give good gifts to those who ask him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Matthew 7:9-11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1" descr="4.5FamilyTi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JEWS PLOTTED TO KILL PAUL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’S NEPHEW SAVED HIS LIF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ESCAPES UNDER COVER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OF DARKNES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0" descr="4.5FamilyTi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50:50Z</dcterms:modified>
  <cp:revision>61</cp:revision>
  <dc:subject/>
  <dc:title>PowerPoint Presentation</dc:title>
</cp:coreProperties>
</file>