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4DevotedtotheWord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158920" y="3581280"/>
            <a:ext cx="929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y devoted themselves to the apostles’ teaching and to fellowship, to the breaking of bread and to prayer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cts 2:42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854360" y="1981080"/>
            <a:ext cx="944856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HEY (THE CHURCH) DEVOTED THEMSELVES</a:t>
            </a:r>
            <a:r>
              <a:rPr b="0" lang="en-US" sz="3200" spc="-1" strike="noStrike">
                <a:solidFill>
                  <a:srgbClr val="404040"/>
                </a:solidFill>
                <a:latin typeface="Helvetica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TO THE APOSTLES’ TEACHING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Helvetica Light"/>
              </a:rPr>
              <a:t>FULFILLING THE GREAT COMMISSION 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4DevotedtotheWord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3:39Z</dcterms:modified>
  <cp:revision>38</cp:revision>
  <dc:subject/>
  <dc:title>PowerPoint Presentation</dc:title>
</cp:coreProperties>
</file>