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6" descr="4.4FinalReport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6" descr="4.4FinalRepor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158920" y="223668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Paul greeted them and reported in detail what God had done among the Gentiles through his ministry. When they heard this, they praised God. Then they said to Paul: “You see, brother, how many thousands of Jews have believed, and all of them are zealous for the law.”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cts 21:19-20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0" descr="4.4FinalRepor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REPORTS TO THE CHURCH LEADER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LISTENS TO THEIR ADVIC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CONTINUES WITH HIS MISSION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9" descr="4.4FinalRepor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0:47:19Z</dcterms:modified>
  <cp:revision>62</cp:revision>
  <dc:subject/>
  <dc:title>PowerPoint Presentation</dc:title>
</cp:coreProperties>
</file>