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.2SpiritArrive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082960" y="342900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All of them were filled with the Holy Spirit and began to speak in other tongues as the Spirit enabled them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4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HOLY SPIRIT ARRIV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SPEAKING A DIFFERENT LANGU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THE REACTION OF THE JEW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1.2SpiritArrive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6:15Z</dcterms:modified>
  <cp:revision>38</cp:revision>
  <dc:subject/>
  <dc:title>PowerPoint Presentation</dc:title>
</cp:coreProperties>
</file>