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2.2RighteousRebellion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149640" y="350532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</a:rPr>
              <a:t>Peter and the other apostles replied: “We must obey God rather than human beings!”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cts 5:2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SANHEDRIN STRUCK BACK AT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THE APOSTLES KEPT REBELLIN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GAMALIEL SUGGESTE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AN EXPERIMENT</a:t>
            </a:r>
            <a:r>
              <a:rPr b="0" lang="en-US" sz="3600" spc="-1" strike="noStrike">
                <a:solidFill>
                  <a:srgbClr val="f2f2f2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.2RighteousRebellion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f2f2f2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10:28Z</dcterms:modified>
  <cp:revision>45</cp:revision>
  <dc:subject/>
  <dc:title>PowerPoint Presentation</dc:title>
</cp:coreProperties>
</file>