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marL="3052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305280" indent="-30528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54720" indent="-54720">
              <a:spcBef>
                <a:spcPts val="4201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1.3PowerfulDangerous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87520" y="35053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The promise is for you and your children and for all who are far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off — for all whom the Lord our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</a:rPr>
              <a:t>God will call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Acts 2:39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778040" y="1716120"/>
            <a:ext cx="9448920" cy="6284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WE KILLED CHRIST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HE (JESUS) HAS RISEN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LET EVERYONE KNOW</a:t>
            </a:r>
            <a:r>
              <a:rPr b="0" lang="en-US" sz="3600" spc="-1" strike="noStrike">
                <a:solidFill>
                  <a:srgbClr val="404040"/>
                </a:solidFill>
                <a:latin typeface="Helvetica Ligh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.3PowerfulDangerous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015920" y="1600200"/>
            <a:ext cx="11098440" cy="215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Helvetica Light"/>
                <a:ea typeface="Arial"/>
              </a:rPr>
              <a:t>TEMPLATE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2158920" y="3809880"/>
            <a:ext cx="9840960" cy="297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  <a:p>
            <a:pPr marL="444600" indent="-444600">
              <a:lnSpc>
                <a:spcPct val="80000"/>
              </a:lnSpc>
              <a:spcBef>
                <a:spcPts val="4201"/>
              </a:spcBef>
              <a:buClr>
                <a:srgbClr val="404040"/>
              </a:buClr>
              <a:buSzPct val="75000"/>
              <a:buFont typeface="Helvetic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ah Hoyt</cp:lastModifiedBy>
  <dcterms:modified xsi:type="dcterms:W3CDTF">2016-07-21T18:51:10Z</dcterms:modified>
  <cp:revision>38</cp:revision>
  <dc:subject/>
  <dc:title>PowerPoint Presentation</dc:title>
</cp:coreProperties>
</file>