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3.2ChangeYouCanTrust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3.2ChangeYouCanTrus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930320" y="2257560"/>
            <a:ext cx="922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You were taught, with regard to your former way of life, to put off your old self, which is being corrupted by its deceitful desires; to be made new in the attitude of your minds; and to put on the new self, created to be like God in true righteousness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nd holiness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Ephesians 4:22-24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3.2ChangeYouCanTrus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AFTER HIS CONVERSION, SAUL IMMEDIATELY BEGAN TO PREACH ABOUT JESUS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SLOWLY, BOTH THE CHRISTIANS AND JEWISH LEADERS BECAME CONVINCED THE CHANGE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IN SAUL WAS REA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SAUL’S HEART WAS CHANGED, BUT HIS BOLD PERSONALITY WAS NOT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3.2ChangeYouCanTrus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38:18Z</dcterms:modified>
  <cp:revision>52</cp:revision>
  <dc:subject/>
  <dc:title>PowerPoint Presentation</dc:title>
</cp:coreProperties>
</file>