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2.4SettingtheStoryStraight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2.4SettingtheStoryStraigh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006640" y="2362320"/>
            <a:ext cx="9067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Helvetica Light"/>
              </a:rPr>
              <a:t>“</a:t>
            </a:r>
            <a:r>
              <a:rPr b="0" lang="en-US" sz="3200" spc="-1" strike="noStrike">
                <a:solidFill>
                  <a:srgbClr val="f2f2f2"/>
                </a:solidFill>
                <a:latin typeface="Helvetica Light"/>
              </a:rPr>
              <a:t>You stiff-necked people! Your hearts and ears are still uncircumcised. You are just like your ancestors: You always resist the Holy Spirit! Was there ever a prophet your ancestors did not persecute? They even killed those who predicted the coming of the Righteous One. And now you have betrayed and murdered him — you who have received the law that was given through angels but have not obeyed it.”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Acts 7:51-53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2.4SettingtheStoryStraigh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GOD USED A WILLING SERVANT IN THE CHURCH TO SHOW HIS GREAT POWER TO THE WORLD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POWERFUL MEN OPPOSED STEPHEN AND LIED TO TRY TO STOP HIM FROM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TALKING ABOUT JESUS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</a:rPr>
              <a:t>INSTEAD OF DEFENDING HIS OWN STORY, STEPHEN TOLD THE STORY OF WHAT GOD WAS DOING IN THE WORLD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2.4SettingtheStoryStraight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17:09Z</dcterms:modified>
  <cp:revision>47</cp:revision>
  <dc:subject/>
  <dc:title>PowerPoint Presentation</dc:title>
</cp:coreProperties>
</file>