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4.1ALittleHelp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3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2666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One night the Lord spoke to Paul in a vision: “Do not be afraid; keep on speaking, do not be silent. For I am with you, and no one is going to attack and harm you, because I have many people in this city.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18:9-1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7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473120" y="1716120"/>
            <a:ext cx="1005840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 CONNECTED WITH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OTHER BELIEVER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AUL’S FRIENDS SUPPORT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HIS MISSION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MANY PEOPLE CAME TO FAITH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IN CHRIS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4.1ALittleHelp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58:30Z</dcterms:modified>
  <cp:revision>57</cp:revision>
  <dc:subject/>
  <dc:title>PowerPoint Presentation</dc:title>
</cp:coreProperties>
</file>