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2.3MoreDisciplesMoreServants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2.3MoreDisciplesMoreServant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930320" y="28954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Brothers and sisters, choose seven men from among you who are known to be full of the Spirit and wisdom. We will turn this responsibility over to them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Acts 6:3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2.3MoreDisciplesMoreServant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01720" y="9907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EVEN SUCCESSFUL, GROWING CHURCHES EXPERIENCE CONFLICT AND NEED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LEADERSHIP SOLUTIONS</a:t>
            </a:r>
            <a:r>
              <a:rPr b="0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LEADERS IN THE CHURCH MUST HAVE GOOD REPUTATIONS, WALK IN THE SPIRIT,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AND LIVE WISELY</a:t>
            </a:r>
            <a:r>
              <a:rPr b="0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LEADERS IN THE CHURCH ARE CHOSEN FROM THE PEOPLE WITHIN THE CHURCH</a:t>
            </a:r>
            <a:r>
              <a:rPr b="0" lang="en-US" sz="3200" spc="-1" strike="noStrike">
                <a:solidFill>
                  <a:srgbClr val="f2f2f2"/>
                </a:solidFill>
                <a:latin typeface="Helvetica Light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2.3MoreDisciplesMoreServant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12:56Z</dcterms:modified>
  <cp:revision>45</cp:revision>
  <dc:subject/>
  <dc:title>PowerPoint Presentation</dc:title>
</cp:coreProperties>
</file>