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4.3OneMoreThi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5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63844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However, I consider my life worth nothing to me; my only aim is to finish the race and complete the task the Lord Jesus has given me — the task of testifying to the good news of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God’s grac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0: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MINISTRY BROUGHT LIF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WOLVES WILL BR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DESTRUCTION AND DIVI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DISCIPLES WERE CHALLENGED TO FOLLOW PAUL’S EXAMPL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4.3OneMoreThi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20:29:47Z</dcterms:modified>
  <cp:revision>59</cp:revision>
  <dc:subject/>
  <dc:title>PowerPoint Presentation</dc:title>
</cp:coreProperties>
</file>