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3.3UsThem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97180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Then Peter began to speak: “I now realize how true it is that God does not show favoritism but accepts from every nation the one who fears him and does what is right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  <a:ea typeface="Arial"/>
              </a:rPr>
              <a:t>Acts 10:34-35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SAW A VISION TELLING HIM TO EAT FORMERLY RESTRICTED ANIMAL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PETER PREACHED TO THE GENTILES; THEY WERE SAVED AND RECEIV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HOLY SPIRIT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THE APOSTLES GLORIFIED GOD FOR GRANTING SALVATION TO THE GENTILES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3.3UsThem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42:31Z</dcterms:modified>
  <cp:revision>53</cp:revision>
  <dc:subject/>
  <dc:title>PowerPoint Presentation</dc:title>
</cp:coreProperties>
</file>