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3.5HeadingOu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235240" y="35053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Christ did not send me to baptize, but to preach the gospel — not with wisdom and eloquence, lest the cross of Christ be emptied of its power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1 Corinthians 1:17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549440" y="1981080"/>
            <a:ext cx="99061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AUL AND BARNABAS WERE SENT OUT AS MISSIONARIES BY THE HOLY SPIRIT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AND THE CHURCH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OME SAW THE MIRACLES PAUL PERFORMED AND BELIEVED THE TEACHING ABOUT JESU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PAUL AND BARNABAS WERE EVENTUALLY KICKED OUT OF THE CITY FOR PREACHING THE GOSPEL, BUT THEY STILL ACCOMPLISHED THEIR MISSION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3.5HeadingOu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8:40Z</dcterms:modified>
  <cp:revision>56</cp:revision>
  <dc:subject/>
  <dc:title>PowerPoint Presentation</dc:title>
</cp:coreProperties>
</file>