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1.6AwesomeSigns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1.6AwesomeSign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387520" y="3767040"/>
            <a:ext cx="822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Everyone was filled with awe at the many wonders and signs performed by the apostles.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Acts 2:43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1.6AwesomeSign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205740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THESE SIGNS WERE AWESOME!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THESE SIGNS IMPACTED MANY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THESE SIGNS HELPED GET THE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WORD OUT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1.6AwesomeSign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19:02:03Z</dcterms:modified>
  <cp:revision>45</cp:revision>
  <dc:subject/>
  <dc:title>PowerPoint Presentation</dc:title>
</cp:coreProperties>
</file>