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4.2ClingingOnlytoTruth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4" descr="4.2ClingingOnlytoTruth2.jpg"/>
          <p:cNvPicPr/>
          <p:nvPr/>
        </p:nvPicPr>
        <p:blipFill>
          <a:blip r:embed="rId1"/>
          <a:stretch/>
        </p:blipFill>
        <p:spPr>
          <a:xfrm>
            <a:off x="0" y="0"/>
            <a:ext cx="13004640" cy="9753480"/>
          </a:xfrm>
          <a:prstGeom prst="rect">
            <a:avLst/>
          </a:prstGeom>
          <a:ln w="0">
            <a:noFill/>
          </a:ln>
        </p:spPr>
      </p:pic>
      <p:sp>
        <p:nvSpPr>
          <p:cNvPr id="78" name="TextBox 2"/>
          <p:cNvSpPr/>
          <p:nvPr/>
        </p:nvSpPr>
        <p:spPr>
          <a:xfrm>
            <a:off x="2463840" y="2666880"/>
            <a:ext cx="81532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For through him we both have access to the Father by one Spirit. Consequently, you are no longer foreigners and strangers, but fellow citizens with God’s people and also members of his household.</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Ephesians 2:18-19</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8" descr="4.2ClingingOnlytoTruth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86840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AUL COMMITTED HIS LIFE AND WORK TO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GOD’S KINGDOM</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SOME OF THE JEWS REJECTED THE GOSPEL IN FAVOR OF THEIR RELIGIOUS TRADITIONS</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SOME OF THE GREEKS VIOLENTLY REJECTED THE GOSPEL IN FAVOR OF THEIR GODS</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7" descr="4.2ClingingOnlytoTruth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20:02:08Z</dcterms:modified>
  <cp:revision>58</cp:revision>
  <dc:subject/>
  <dc:title>PowerPoint Presentation</dc:title>
</cp:coreProperties>
</file>