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4.7FriendsThatWon'tQui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51460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Keep your lives free from the love of money and be content with what you have, because God has said, “Never will I leave you; never will I forsake you.”So we say with confidence, “The Lord is my helper; I will not be afraid. What can mere mortals do to me?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roverbs 18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SETS OFF FOR ROME WITH LUK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KNEW THE SHIP WOULD FACE DISASTER AND WARNED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EVEN WHEN THINGS LOOKED THE WORST, PAUL REFUSED TO STOP TRUSTING GOD AND ENCOURAGING THE OTHER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AND LUKE FINALLY ARRIVED IN ROME AND WERE ENCOURAGED BY THE CHRISTIANS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PRESENTED THE GOOD NEWS ABOUT JESUS TO THE JEWISH PEOPLE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Helvetica Light"/>
              </a:rPr>
              <a:t>PAUL CONTINUED TO PROCLAIM THE GOSPEL IN ROME</a:t>
            </a:r>
            <a:r>
              <a:rPr b="0" lang="en-US" sz="28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4.7FriendsThatWon'tQui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1:06:02Z</dcterms:modified>
  <cp:revision>64</cp:revision>
  <dc:subject/>
  <dc:title>PowerPoint Presentation</dc:title>
</cp:coreProperties>
</file>