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3.1VillaintoHero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3.1VillaintoHero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701720" y="2541600"/>
            <a:ext cx="9677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For I am the least of the apostles and do not even deserve to be called an apostle, because I persecuted the church of God. But by the grace of God I am what I am, and his grace to me was not without effect. No, I worked harder than all of them—yet not I, but the grace of God that was with me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1 Corinthians 15:9-10a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3.1VillaintoHero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AUL SET OUT TO ARREST THE CHRISTIANS IN DAMASCUS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LORD KNOCKED SAUL DOWN, SPOKE TO HIM, AND BLINDED HIM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GOD USED ANANIAS TO GIV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AUL HIS MESSAGE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3.1VillaintoHero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33:56Z</dcterms:modified>
  <cp:revision>51</cp:revision>
  <dc:subject/>
  <dc:title>PowerPoint Presentation</dc:title>
</cp:coreProperties>
</file>