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8" descr="4.6NeverAlon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8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236232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Keep your lives free from the love of money and be content with what you have, because God has said, “Never will I leave you; never will I forsake you.” So we say with confidence, “The Lord is my helper; I will not be afraid. What can mere mortals do to me?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Hebrews 13:5-6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2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STANDS ALONE BEFORE FEST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PAUL TESTIFIES ALONE BEFOR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KING AGRIPPA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Helvetica Light"/>
              </a:rPr>
              <a:t>GOD NEVER LEFT PAUL ALONE</a:t>
            </a:r>
            <a:r>
              <a:rPr b="0" lang="en-US" sz="3600" spc="-1" strike="noStrike">
                <a:solidFill>
                  <a:srgbClr val="d9d9d9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1" descr="4.6NeverAlon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d9d9d9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55:28Z</dcterms:modified>
  <cp:revision>62</cp:revision>
  <dc:subject/>
  <dc:title>PowerPoint Presentation</dc:title>
</cp:coreProperties>
</file>