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.5WillingtoRunDie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463840" y="294336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nd Saul approved of their killing him. On that day a great persecution broke out against the church in Jerusalem, and all except the apostles were scattered throughou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Judea and Samaria.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8:1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SAW THE GLORY OF G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STEPHEN DIED FO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— </a:t>
            </a: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AND LIKE — JESUS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PERSECUTION BEGAN AND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CHURCH SCATTERED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2.5WillingtoRunDie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21:31Z</dcterms:modified>
  <cp:revision>47</cp:revision>
  <dc:subject/>
  <dc:title>PowerPoint Presentation</dc:title>
</cp:coreProperties>
</file>